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2B5-94F0-474C-A55D-52B412B3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A7F-E031-4D26-B102-2AF11614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2B8-0860-4825-B6EC-572532D5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825-03A9-4101-9C8F-0A1E686E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BAA-4FFF-42B4-8829-90235944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553-4E93-41A3-8F49-4C6A1661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969-B63F-4029-A839-1528E52C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5A1-6D76-41AE-8CB8-C4E33F1C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3FE-B2AE-432C-B356-D2827E1C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FCF-13B9-46EE-A158-07FCE091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A02-031C-4CB9-9051-C151DAF9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5C8-2F26-4B3F-B913-EFEFEDF4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BC8C-7585-4528-A630-9AC9977447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211640" y="928800"/>
            <a:ext cx="1440000" cy="484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ДДС 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81843) 4-16-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714760" y="1571760"/>
            <a:ext cx="13665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лава МО- рай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ксенов А.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12-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"/>
          <p:cNvSpPr/>
          <p:nvPr/>
        </p:nvSpPr>
        <p:spPr>
          <a:xfrm>
            <a:off x="313200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3"/>
          <p:cNvSpPr/>
          <p:nvPr/>
        </p:nvSpPr>
        <p:spPr>
          <a:xfrm flipV="1">
            <a:off x="4071960" y="1428480"/>
            <a:ext cx="78588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5"/>
          <p:cNvSpPr/>
          <p:nvPr/>
        </p:nvSpPr>
        <p:spPr>
          <a:xfrm flipV="1">
            <a:off x="5651640" y="963360"/>
            <a:ext cx="529920" cy="16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6"/>
          <p:cNvSpPr/>
          <p:nvPr/>
        </p:nvSpPr>
        <p:spPr>
          <a:xfrm>
            <a:off x="357120" y="2421000"/>
            <a:ext cx="13352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тдел ГОЧ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11-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лезов С.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1979640" y="2421000"/>
            <a:ext cx="1079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ЧС и П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12-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ксенов А.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3348000" y="2421000"/>
            <a:ext cx="1295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 «Беляевское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32-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ахрушев В.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 «Никольское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36-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ьюхина В.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4932360" y="2421000"/>
            <a:ext cx="1152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 «Павловское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51-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ровин А.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6372360" y="2421000"/>
            <a:ext cx="1152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 «Вилегодское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62-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узьмин А.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7786800" y="2428920"/>
            <a:ext cx="1152360" cy="5000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 «Селянское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75-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ушуев А.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3"/>
          <p:cNvSpPr/>
          <p:nvPr/>
        </p:nvSpPr>
        <p:spPr>
          <a:xfrm>
            <a:off x="1187280" y="220500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2"/>
          <p:cNvSpPr/>
          <p:nvPr/>
        </p:nvSpPr>
        <p:spPr>
          <a:xfrm>
            <a:off x="406728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3"/>
          <p:cNvSpPr/>
          <p:nvPr/>
        </p:nvSpPr>
        <p:spPr>
          <a:xfrm>
            <a:off x="565164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4"/>
          <p:cNvSpPr/>
          <p:nvPr/>
        </p:nvSpPr>
        <p:spPr>
          <a:xfrm>
            <a:off x="702000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5"/>
          <p:cNvSpPr/>
          <p:nvPr/>
        </p:nvSpPr>
        <p:spPr>
          <a:xfrm>
            <a:off x="838836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6"/>
          <p:cNvSpPr/>
          <p:nvPr/>
        </p:nvSpPr>
        <p:spPr>
          <a:xfrm>
            <a:off x="248436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8"/>
          <p:cNvSpPr/>
          <p:nvPr/>
        </p:nvSpPr>
        <p:spPr>
          <a:xfrm>
            <a:off x="1187280" y="220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9"/>
          <p:cNvSpPr/>
          <p:nvPr/>
        </p:nvSpPr>
        <p:spPr>
          <a:xfrm>
            <a:off x="4932360" y="141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0"/>
          <p:cNvSpPr/>
          <p:nvPr/>
        </p:nvSpPr>
        <p:spPr>
          <a:xfrm>
            <a:off x="4643280" y="1700280"/>
            <a:ext cx="50508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1"/>
          <p:cNvSpPr/>
          <p:nvPr/>
        </p:nvSpPr>
        <p:spPr>
          <a:xfrm>
            <a:off x="1692360" y="2708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3"/>
          <p:cNvSpPr/>
          <p:nvPr/>
        </p:nvSpPr>
        <p:spPr>
          <a:xfrm>
            <a:off x="3059280" y="2708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5"/>
          <p:cNvSpPr/>
          <p:nvPr/>
        </p:nvSpPr>
        <p:spPr>
          <a:xfrm>
            <a:off x="6072120" y="2714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9"/>
          <p:cNvSpPr/>
          <p:nvPr/>
        </p:nvSpPr>
        <p:spPr>
          <a:xfrm>
            <a:off x="285840" y="3573360"/>
            <a:ext cx="133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1"/>
          <p:cNvSpPr/>
          <p:nvPr/>
        </p:nvSpPr>
        <p:spPr>
          <a:xfrm>
            <a:off x="1619280" y="357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тивопожарн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ужб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12-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4"/>
          <p:cNvSpPr/>
          <p:nvPr/>
        </p:nvSpPr>
        <p:spPr>
          <a:xfrm>
            <a:off x="1116000" y="2924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5"/>
          <p:cNvSpPr/>
          <p:nvPr/>
        </p:nvSpPr>
        <p:spPr>
          <a:xfrm flipV="1" rot="10855800">
            <a:off x="826560" y="3141000"/>
            <a:ext cx="50508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6"/>
          <p:cNvSpPr/>
          <p:nvPr/>
        </p:nvSpPr>
        <p:spPr>
          <a:xfrm>
            <a:off x="2843280" y="3573360"/>
            <a:ext cx="108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дицинска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ужб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12-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7"/>
          <p:cNvSpPr/>
          <p:nvPr/>
        </p:nvSpPr>
        <p:spPr>
          <a:xfrm>
            <a:off x="5003640" y="357336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ужба торговл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пит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15-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9"/>
          <p:cNvSpPr/>
          <p:nvPr/>
        </p:nvSpPr>
        <p:spPr>
          <a:xfrm>
            <a:off x="571680" y="5157720"/>
            <a:ext cx="824688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 а с е л е н и 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иды оповещение: сирена, телефон, сход ,сбор, сигнал звона, передвижные рупор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0"/>
          <p:cNvSpPr/>
          <p:nvPr/>
        </p:nvSpPr>
        <p:spPr>
          <a:xfrm flipV="1">
            <a:off x="4643280" y="3284280"/>
            <a:ext cx="374508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3"/>
          <p:cNvSpPr/>
          <p:nvPr/>
        </p:nvSpPr>
        <p:spPr>
          <a:xfrm>
            <a:off x="572436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4"/>
          <p:cNvSpPr/>
          <p:nvPr/>
        </p:nvSpPr>
        <p:spPr>
          <a:xfrm>
            <a:off x="702000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5"/>
          <p:cNvSpPr/>
          <p:nvPr/>
        </p:nvSpPr>
        <p:spPr>
          <a:xfrm>
            <a:off x="838836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8"/>
          <p:cNvSpPr/>
          <p:nvPr/>
        </p:nvSpPr>
        <p:spPr>
          <a:xfrm>
            <a:off x="5148360" y="328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9"/>
          <p:cNvSpPr/>
          <p:nvPr/>
        </p:nvSpPr>
        <p:spPr>
          <a:xfrm>
            <a:off x="3924360" y="3573360"/>
            <a:ext cx="1224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ужба связ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повещ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16-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0"/>
          <p:cNvSpPr/>
          <p:nvPr/>
        </p:nvSpPr>
        <p:spPr>
          <a:xfrm>
            <a:off x="4859280" y="3213000"/>
            <a:ext cx="647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2"/>
          <p:cNvSpPr/>
          <p:nvPr/>
        </p:nvSpPr>
        <p:spPr>
          <a:xfrm>
            <a:off x="6443640" y="3573360"/>
            <a:ext cx="1297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ужба О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12-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3"/>
          <p:cNvSpPr/>
          <p:nvPr/>
        </p:nvSpPr>
        <p:spPr>
          <a:xfrm>
            <a:off x="7667640" y="3573360"/>
            <a:ext cx="1297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мунально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хническая служб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22-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4"/>
          <p:cNvSpPr/>
          <p:nvPr/>
        </p:nvSpPr>
        <p:spPr>
          <a:xfrm>
            <a:off x="1979640" y="2924280"/>
            <a:ext cx="1079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Эвакокоми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4-11-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Шевелёва Е.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5"/>
          <p:cNvSpPr/>
          <p:nvPr/>
        </p:nvSpPr>
        <p:spPr>
          <a:xfrm>
            <a:off x="1619280" y="4149720"/>
            <a:ext cx="3529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втодорожная служба – (81843) 4-16-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9"/>
          <p:cNvSpPr/>
          <p:nvPr/>
        </p:nvSpPr>
        <p:spPr>
          <a:xfrm>
            <a:off x="5219640" y="4149720"/>
            <a:ext cx="374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лужба энергоснабжения-  (81843) 4-41-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0"/>
          <p:cNvSpPr/>
          <p:nvPr/>
        </p:nvSpPr>
        <p:spPr>
          <a:xfrm>
            <a:off x="4067280" y="4581360"/>
            <a:ext cx="2160360" cy="2876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ктив населенных пунк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1"/>
          <p:cNvSpPr/>
          <p:nvPr/>
        </p:nvSpPr>
        <p:spPr>
          <a:xfrm>
            <a:off x="514836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2"/>
          <p:cNvSpPr/>
          <p:nvPr/>
        </p:nvSpPr>
        <p:spPr>
          <a:xfrm>
            <a:off x="514836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1"/>
          <p:cNvSpPr/>
          <p:nvPr/>
        </p:nvSpPr>
        <p:spPr>
          <a:xfrm>
            <a:off x="4427640" y="486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2"/>
          <p:cNvSpPr/>
          <p:nvPr/>
        </p:nvSpPr>
        <p:spPr>
          <a:xfrm>
            <a:off x="5940360" y="486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0"/>
          <p:cNvSpPr/>
          <p:nvPr/>
        </p:nvSpPr>
        <p:spPr>
          <a:xfrm>
            <a:off x="285840" y="358920"/>
            <a:ext cx="8501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-сх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вещения населения МО «Вилегодский муниципальный район» при Ч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1"/>
          <p:cNvSpPr/>
          <p:nvPr/>
        </p:nvSpPr>
        <p:spPr>
          <a:xfrm>
            <a:off x="5796000" y="1628640"/>
            <a:ext cx="1204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ИМС г. Коряж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50) 3-62-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2"/>
          <p:cNvSpPr/>
          <p:nvPr/>
        </p:nvSpPr>
        <p:spPr>
          <a:xfrm>
            <a:off x="7091280" y="1600200"/>
            <a:ext cx="1623960" cy="46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илегодское лесниче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81843) 4-71-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3"/>
          <p:cNvSpPr/>
          <p:nvPr/>
        </p:nvSpPr>
        <p:spPr>
          <a:xfrm>
            <a:off x="5072040" y="1428840"/>
            <a:ext cx="723960" cy="344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9"/>
          <p:cNvSpPr/>
          <p:nvPr/>
        </p:nvSpPr>
        <p:spPr>
          <a:xfrm>
            <a:off x="6847200" y="214200"/>
            <a:ext cx="22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 № 6 к Плану действ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дупреждению и ликвидации Ч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162840" y="857160"/>
            <a:ext cx="2724120" cy="2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КС ГУ МЧС России по А.О.(8182) 21-50-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5"/>
          <p:cNvSpPr/>
          <p:nvPr/>
        </p:nvSpPr>
        <p:spPr>
          <a:xfrm>
            <a:off x="7500960" y="2714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3357720" y="1071720"/>
            <a:ext cx="857160" cy="4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звук 82">
            <a:hlinkClick r:id="rId1"/>
          </p:cNvPr>
          <p:cNvSpPr/>
          <p:nvPr/>
        </p:nvSpPr>
        <p:spPr>
          <a:xfrm rot="10800000">
            <a:off x="857160" y="1642680"/>
            <a:ext cx="1000080" cy="428760"/>
          </a:xfrm>
          <a:custGeom>
            <a:avLst/>
            <a:gdLst>
              <a:gd name="textAreaLeft" fmla="*/ 27720 w 1000080"/>
              <a:gd name="textAreaRight" fmla="*/ 972360 w 10000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0358" h="21600">
                <a:moveTo>
                  <a:pt x="0" y="0"/>
                </a:moveTo>
                <a:lnTo>
                  <a:pt x="50358" y="0"/>
                </a:lnTo>
                <a:lnTo>
                  <a:pt x="50358" y="21600"/>
                </a:lnTo>
                <a:lnTo>
                  <a:pt x="0" y="21600"/>
                </a:lnTo>
                <a:close/>
              </a:path>
              <a:path fill="lightenLess" w="50358" h="21600">
                <a:moveTo>
                  <a:pt x="0" y="0"/>
                </a:moveTo>
                <a:lnTo>
                  <a:pt x="50358" y="0"/>
                </a:lnTo>
                <a:lnTo>
                  <a:pt x="48958" y="1400"/>
                </a:lnTo>
                <a:lnTo>
                  <a:pt x="1400" y="1400"/>
                </a:lnTo>
                <a:close/>
              </a:path>
              <a:path fill="darken" w="50358" h="21600">
                <a:moveTo>
                  <a:pt x="50358" y="0"/>
                </a:moveTo>
                <a:lnTo>
                  <a:pt x="50358" y="21600"/>
                </a:lnTo>
                <a:lnTo>
                  <a:pt x="48958" y="20200"/>
                </a:lnTo>
                <a:lnTo>
                  <a:pt x="48958" y="1400"/>
                </a:lnTo>
                <a:close/>
              </a:path>
              <a:path fill="darkenLess" w="50358" h="21600">
                <a:moveTo>
                  <a:pt x="50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58" y="20200"/>
                </a:lnTo>
                <a:close/>
              </a:path>
              <a:path fill="lighten" w="50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58" h="21600">
                <a:moveTo>
                  <a:pt x="18172" y="8406"/>
                </a:moveTo>
                <a:lnTo>
                  <a:pt x="22603" y="8406"/>
                </a:lnTo>
                <a:lnTo>
                  <a:pt x="27024" y="3794"/>
                </a:lnTo>
                <a:lnTo>
                  <a:pt x="27024" y="17806"/>
                </a:lnTo>
                <a:lnTo>
                  <a:pt x="22603" y="13194"/>
                </a:lnTo>
                <a:lnTo>
                  <a:pt x="18172" y="13194"/>
                </a:lnTo>
                <a:close/>
              </a:path>
              <a:path fill="darken" w="50358" h="21600">
                <a:moveTo>
                  <a:pt x="28678" y="10800"/>
                </a:moveTo>
                <a:lnTo>
                  <a:pt x="32185" y="10800"/>
                </a:lnTo>
              </a:path>
              <a:path fill="darken" w="50358" h="21600">
                <a:moveTo>
                  <a:pt x="28678" y="8406"/>
                </a:moveTo>
                <a:lnTo>
                  <a:pt x="32185" y="5639"/>
                </a:lnTo>
              </a:path>
              <a:path fill="darken" w="50358" h="21600">
                <a:moveTo>
                  <a:pt x="28678" y="13194"/>
                </a:moveTo>
                <a:lnTo>
                  <a:pt x="32185" y="159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857160" y="1214280"/>
            <a:ext cx="1000080" cy="419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Ц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СЭ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 flipV="1">
            <a:off x="1857240" y="1213920"/>
            <a:ext cx="2357640" cy="428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071800" y="857160"/>
            <a:ext cx="13017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3"/>
          <p:cNvSpPr/>
          <p:nvPr/>
        </p:nvSpPr>
        <p:spPr>
          <a:xfrm>
            <a:off x="4643280" y="27147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2"/>
          <p:cNvSpPr/>
          <p:nvPr/>
        </p:nvSpPr>
        <p:spPr>
          <a:xfrm>
            <a:off x="6181560" y="1125360"/>
            <a:ext cx="2705400" cy="204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С Архангельской области 8(8182) 21-50-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5651640" y="1125360"/>
            <a:ext cx="564840" cy="10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5651640" y="1330200"/>
            <a:ext cx="225252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2:13:38Z</dcterms:created>
  <dc:creator>User</dc:creator>
  <dc:description/>
  <dc:language>en-US</dc:language>
  <cp:lastModifiedBy>User</cp:lastModifiedBy>
  <dcterms:modified xsi:type="dcterms:W3CDTF">2021-11-15T06:05:52Z</dcterms:modified>
  <cp:revision>32</cp:revision>
  <dc:subject/>
  <dc:title>Слайд 1</dc:title>
</cp:coreProperties>
</file>